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6C2D-CC77-4D87-859A-8B57FCC4BA3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ores for first exam are available on Web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s (A and B) with correct answers marked are available on usual course web site (not in WebC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more days of observing for extra credit for first ex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res for first exam are available on Web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s (A and B) with correct answers marked are available on usual course web site (not in WebC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ore days of observing for extra credit for first ex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exam will be on Friday, October 8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exam will be on Wednesday, Nov. 17, instead of Friday, Nov. 1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are about 4000 K (2000 K cooler than solar surface) and have magnetic fields up 1000 the normal solar magnetic field.   They can be as large as 50,000 km and last for many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s are about 4000 K (2000 K cooler than solar surface) and have magnetic fields up 1000 the normal solar magnetic field.   They can be as large as 50,000 km and last for many mon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 magnetic fields in sunspots decrease the flow of heat via convection causing the sunspot to become c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 magnetic fields in sunspots decrease the flow of heat via convection causing the sunspot to become c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can be used to measure the rotati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e equator the Sun rotates once in 25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les rotate more slowly, about once every 36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can be used to measure the rotation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 the equator the Sun rotates once in 25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es rotate more slowly, about once every 36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11 years, the Sun’s magnetic field changes direction.  Overall cycle is 22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11 years, the Sun’s magnetic field changes direction.  Overall cycle is 22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rect observational evidence supports the model of thermonuclear reactions in the Sun’s co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ino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 cou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MD insp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rect observational evidence supports the model of thermonuclear reactions in the Sun’s co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 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MD insp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Layer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, flares, 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17.3-17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ayers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, flares, coronal mass ej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ing 17.3-17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magnetic fields also create other phenome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magnetic fields also create other phenom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, that we see, get trapped along magnetic field lines, that we don’t see, stretching out from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, that we see, get trapped along magnetic field lines, that we don’t see, stretching out from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er than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than phot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flar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ter, up to 40,000,000 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energe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flar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, up to 40,000,000 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nerg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uption of gas, can reach Earth and affect aurora,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uption of gas, can reach Earth and affect aurora,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tatement is not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oronal temperature is about 106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very cool and dark, with temperatures of about 300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core has a temperature about 107 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romosphere is hotter than the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tatement is not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coronal temperature is about 106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very cool and dark, with temperatures of about 300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core has a temperature about 107 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romosphere is hotter than the phot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iding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Sun is so bright, how is it possible to see its dim outer atmosphere (corona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n during eclipse, also with space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olar wind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ous ‘rain’ of charged particles from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sunspots? Why do they appear dar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ally intense regions, 2000K cooler than surroundings (dark by contrast with hotter surfac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connection between sunspots and the Sun’s magnetic fie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regions of intense 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ding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Sun is so bright, how is it possible to see its dim outer atmosphere (corona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n during eclipse, also with space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solar wind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‘rain’ of charged particles from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unspots? Why do they appear da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ally intense regions, 2000K cooler than surroundings (dark by contrast with hotter surfac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connection between sunspots and the Sun’s magnetic fie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regions of intense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 - the 5800 K layer we s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 – a thin layer, a few 1000 km thick, at a temperature of about 10,000 K.  Can be seen during solar eclip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 – Outermost layer, 1,000,000 km thick, at a temperature of about 1,000,000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 - the 5800 K layer we se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 – a thin layer, a few 1000 km thick, at a temperature of about 10,000 K.  Can be seen during solar eclip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 – Outermost layer, 1,000,000 km thick, at a temperature of about 1,000,000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layers of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= photosphere, 2 = chromosphere, 3 =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the outer layers of the Sun’s atmosphere are hotter is a puzz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ayers of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= photosphere, 2 = chromosphere, 3 =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 outer layers of the Sun’s atmosphere are hotter is a puzz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vibrates up and down in oscillations which can go deep through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observe these oscillations from Earth by looking at the Doppler shifts of different pieces of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seismology is a way to probe the Sun’s interior using the Sun’s own vibr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rface of the Sun vibrates up and down in oscillations which can go deep through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observe these oscillations from Earth by looking at the Doppler shifts of different pieces of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oseismology is a way to probe the Sun’s interior using the Sun’s own vib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AC41-1AA6-4BD0-B00D-3AFED1811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10FD-62E3-4263-9375-1951D557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1959-5ECC-4778-BB18-4D7774F4E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9D31-D51D-4DF9-8EC1-7F23C0AA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C377-4B75-4733-A129-2E694630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702F-1B57-41E6-AC03-C605B499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A473-1ABC-4C45-B490-9CA59821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BA21-EC28-45BE-8147-560FF655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3956-0FCF-47FF-83CD-CB84E9B5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52CC-0665-422B-A26C-EFD90F1B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15C3-D61A-439B-B90B-25397662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DDE2-8FE8-4862-A438-D72F3322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4FD4-7765-43F6-92AC-0C531175E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hyperlink" Target="file:///prominence_10jan00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file:///cme_anim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res for first exam are available on Web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s (A and B) with correct answers marked are available on usual course web site (not in WebC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more days of observing for extra credit for first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29400" y="1066680"/>
            <a:ext cx="236232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temp"/>
          <p:cNvPicPr/>
          <p:nvPr/>
        </p:nvPicPr>
        <p:blipFill>
          <a:blip r:embed="rId1"/>
          <a:srcRect l="5319" t="5326" r="7448" b="7450"/>
          <a:stretch/>
        </p:blipFill>
        <p:spPr>
          <a:xfrm>
            <a:off x="0" y="-28440"/>
            <a:ext cx="7162920" cy="688644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" descr="temp"/>
          <p:cNvPicPr/>
          <p:nvPr/>
        </p:nvPicPr>
        <p:blipFill>
          <a:blip r:embed="rId1"/>
          <a:stretch/>
        </p:blipFill>
        <p:spPr>
          <a:xfrm>
            <a:off x="0" y="263520"/>
            <a:ext cx="9144000" cy="65181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27" descr="temp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390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28"/>
          <p:cNvSpPr/>
          <p:nvPr/>
        </p:nvSpPr>
        <p:spPr>
          <a:xfrm>
            <a:off x="228600" y="54864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 spots are about 4000 K (2000 K cooler than solar surface) and have magnetic fields up 100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normal solar magnetic field.   They can be as large as 50,000 km and last for many mon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Z:\kaaret\class\2004f_29c50\spiral.gif"/>
          <p:cNvPicPr/>
          <p:nvPr/>
        </p:nvPicPr>
        <p:blipFill>
          <a:blip r:embed="rId1"/>
          <a:stretch/>
        </p:blipFill>
        <p:spPr>
          <a:xfrm>
            <a:off x="304920" y="2438280"/>
            <a:ext cx="6553080" cy="2133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7086600" y="35053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33520" y="43434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temp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3905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28600" y="5486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 magnetic fields in sunspots decrease the flow of heat via convection causing the sunspot to become c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026" descr="temp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can be used to measure the rotation of the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027" descr="Z:\kaaret\class\2004f_29c50\Sunspot-Rotation-Animation.gif"/>
          <p:cNvPicPr/>
          <p:nvPr/>
        </p:nvPicPr>
        <p:blipFill>
          <a:blip r:embed="rId1"/>
          <a:stretch/>
        </p:blipFill>
        <p:spPr>
          <a:xfrm>
            <a:off x="380880" y="1828800"/>
            <a:ext cx="4649760" cy="4649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28"/>
          <p:cNvSpPr/>
          <p:nvPr/>
        </p:nvSpPr>
        <p:spPr>
          <a:xfrm>
            <a:off x="5562720" y="1905120"/>
            <a:ext cx="3124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ar the equator the Sun rotates once in 25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les rotate more slowly, about once every 36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858000" y="3809880"/>
            <a:ext cx="228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11 years, the Sun’s magnetic field changes direction.  Overall cycle is 22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Z:\kaaret\class\2004f_29c50\17f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temp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direct observational evidence supports the model of thermonuclear reactions in the Sun’s co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259056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trin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mma 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 spot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D insp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Layers of the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ioseism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 sp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inences, flares, coronal mass e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17.3-17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ar magnetic fields also create other phenome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3124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ar w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l mass e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temp"/>
          <p:cNvPicPr/>
          <p:nvPr/>
        </p:nvPicPr>
        <p:blipFill>
          <a:blip r:embed="rId1"/>
          <a:stretch/>
        </p:blipFill>
        <p:spPr>
          <a:xfrm>
            <a:off x="3657600" y="1539720"/>
            <a:ext cx="5486400" cy="53182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Z:\kaaret\class\2004f_29c50\spiral.gif"/>
          <p:cNvPicPr/>
          <p:nvPr/>
        </p:nvPicPr>
        <p:blipFill>
          <a:blip r:embed="rId1"/>
          <a:stretch/>
        </p:blipFill>
        <p:spPr>
          <a:xfrm>
            <a:off x="304920" y="2438280"/>
            <a:ext cx="6553080" cy="2133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7086600" y="35053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533520" y="43434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33520" y="57150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les, that we see, get trapped along magnetic field lines, that we don’t see, stretching out from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Z:\kaaret\class\2004f_29c50\SolarProminence.jpg"/>
          <p:cNvPicPr/>
          <p:nvPr/>
        </p:nvPicPr>
        <p:blipFill>
          <a:blip r:embed="rId1"/>
          <a:srcRect l="7146" t="7141" r="9186" b="9191"/>
          <a:stretch/>
        </p:blipFill>
        <p:spPr>
          <a:xfrm>
            <a:off x="0" y="685800"/>
            <a:ext cx="7772400" cy="6219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562720" y="-360"/>
            <a:ext cx="358128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minences -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oler than photosph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Z:\kaaret\class\2004f_29c50\solar_flare.jpg"/>
          <p:cNvPicPr/>
          <p:nvPr/>
        </p:nvPicPr>
        <p:blipFill>
          <a:blip r:embed="rId1"/>
          <a:stretch/>
        </p:blipFill>
        <p:spPr>
          <a:xfrm>
            <a:off x="0" y="0"/>
            <a:ext cx="7010280" cy="68914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86400" y="-360"/>
            <a:ext cx="36576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lar flares -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tter, up to 40,000,000 K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re energe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Z:\kaaret\class\2004f_29c50\prominence_anim.gif"/>
          <p:cNvPicPr/>
          <p:nvPr/>
        </p:nvPicPr>
        <p:blipFill>
          <a:blip r:embed="rId1"/>
          <a:stretch/>
        </p:blipFill>
        <p:spPr>
          <a:xfrm>
            <a:off x="2286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562720" y="-360"/>
            <a:ext cx="358128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onal mass ejections -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ruption of gas, can reach Earth and affect aurora, satell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4674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Z:\kaaret\class\2004f_29c50\soho_2_400.jpg"/>
          <p:cNvPicPr/>
          <p:nvPr/>
        </p:nvPicPr>
        <p:blipFill>
          <a:blip r:embed="rId1"/>
          <a:stretch/>
        </p:blipFill>
        <p:spPr>
          <a:xfrm>
            <a:off x="0" y="0"/>
            <a:ext cx="8915400" cy="6975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81080" y="0"/>
            <a:ext cx="5105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onal mass ej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74674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ch statement is not correc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lar coronal temperature is abou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spots are very cool and dark, with temperatures of about 300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n’s core has a temperature about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romosphere is hotter than the photosp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uiding 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the Sun is so bright, how is it possible to see its dim outer atmosphere (corona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n during eclipse, also with space instr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does the solar wind come fr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ous ‘rain’ of charged particles from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sunspots? Why do they appear dar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ally intense regions, 200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cooler than surroundings (dark by contrast with hotter surfac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connection between sunspots and the Sun’s magnetic fie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spots are regions of intense 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un’s At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5800 K layer we se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a thin layer, a few 1000 km thick, at a temperature of about 10,000 K.  Can be seen during solar eclip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Outermost layer, 1,000,000 km thick, at a temperature of about 1,000,000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layers of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027" descr="Z:\kaaret\class\2004f_29c50\sunlayer.gif"/>
          <p:cNvPicPr/>
          <p:nvPr/>
        </p:nvPicPr>
        <p:blipFill>
          <a:blip r:embed="rId1"/>
          <a:stretch/>
        </p:blipFill>
        <p:spPr>
          <a:xfrm>
            <a:off x="1752480" y="0"/>
            <a:ext cx="5181840" cy="4992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28"/>
          <p:cNvSpPr/>
          <p:nvPr/>
        </p:nvSpPr>
        <p:spPr>
          <a:xfrm>
            <a:off x="609480" y="51814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= photosphere, 2 = chromosphere, 3 = cor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the outer layers of the Sun’s atmosphere are hotter is a puzz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temp"/>
          <p:cNvPicPr/>
          <p:nvPr/>
        </p:nvPicPr>
        <p:blipFill>
          <a:blip r:embed="rId1"/>
          <a:srcRect l="7367" t="7365" r="7367" b="7371"/>
          <a:stretch/>
        </p:blipFill>
        <p:spPr>
          <a:xfrm>
            <a:off x="228600" y="304920"/>
            <a:ext cx="6553080" cy="6300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3760" y="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hoto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Z:\kaaret\class\2004f_29c50\chromosphere.jpg"/>
          <p:cNvPicPr/>
          <p:nvPr/>
        </p:nvPicPr>
        <p:blipFill>
          <a:blip r:embed="rId1"/>
          <a:stretch/>
        </p:blipFill>
        <p:spPr>
          <a:xfrm>
            <a:off x="0" y="0"/>
            <a:ext cx="8686800" cy="68994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ro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Z:\kaaret\class\2004f_29c50\corona_beer.jpg"/>
          <p:cNvPicPr/>
          <p:nvPr/>
        </p:nvPicPr>
        <p:blipFill>
          <a:blip r:embed="rId1"/>
          <a:stretch/>
        </p:blipFill>
        <p:spPr>
          <a:xfrm>
            <a:off x="-380880" y="1295280"/>
            <a:ext cx="9524880" cy="326556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Z:\kaaret\class\2004f_29c50\corona.gif"/>
          <p:cNvPicPr/>
          <p:nvPr/>
        </p:nvPicPr>
        <p:blipFill>
          <a:blip r:embed="rId1"/>
          <a:stretch/>
        </p:blipFill>
        <p:spPr>
          <a:xfrm>
            <a:off x="0" y="168120"/>
            <a:ext cx="6689880" cy="6689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4191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rface of the Sun vibrates up and down in oscillations which can go deep through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observe these oscillations from Earth by looking at the Doppler shifts of different pieces of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lioseismology is a way to probe the Sun’s interior using the Sun’s own vibra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temp"/>
          <p:cNvPicPr/>
          <p:nvPr/>
        </p:nvPicPr>
        <p:blipFill>
          <a:blip r:embed="rId1"/>
          <a:stretch/>
        </p:blipFill>
        <p:spPr>
          <a:xfrm>
            <a:off x="4191120" y="1752480"/>
            <a:ext cx="4952880" cy="48895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00:58:33Z</dcterms:created>
  <dc:creator>Philip Kaaret</dc:creator>
  <dc:description/>
  <dc:language>en-US</dc:language>
  <cp:lastModifiedBy>Legion</cp:lastModifiedBy>
  <dcterms:modified xsi:type="dcterms:W3CDTF">2017-01-26T10:30:29Z</dcterms:modified>
  <cp:revision>10</cp:revision>
  <dc:subject/>
  <dc:title>Outer Layers of the Sun</dc:title>
</cp:coreProperties>
</file>